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E7F0-35A8-4C00-8561-2A7186ABA43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8F52-E04E-4968-9D47-46119DD46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1A13-0ABE-4FF0-9BD7-F0271FD2B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8D8B-7431-4C3E-827F-F025DA785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BD94-67EB-4398-9152-B9F822319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6DB-AD43-4DD6-AEEE-E9A4BCA2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F3D-27D2-49ED-AD97-2697496B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A06-E350-46E9-9A2F-275FFABF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E38-AB51-4BB4-AD82-B261E860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463-B706-49E5-8A59-DE525DC1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688-1A2C-450D-B5AA-76DEC171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9EF-8A72-4B0C-A155-2394A493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F6D-1BD1-4032-86BE-0213DF5C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0E0-2596-453F-B6D7-6CF8E21C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3D8-8DE4-4E3E-A303-417B1BC8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BE0-448A-4205-952A-F3A797C6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D8F-BB5E-41B6-BD48-27CB53D5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C397-1524-4251-96BC-A8F3700B6C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43120"/>
            <a:ext cx="9144000" cy="147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Verdana"/>
              </a:rPr>
              <a:t>NAMING &amp; FORMULA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4175280" y="1477800"/>
            <a:ext cx="987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b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 flipH="1">
            <a:off x="3505320" y="380988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4952880" y="380988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67652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64832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od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4495680" y="2209680"/>
            <a:ext cx="381240" cy="533520"/>
          </a:xfrm>
          <a:prstGeom prst="downArrow">
            <a:avLst>
              <a:gd name="adj1" fmla="val 41667"/>
              <a:gd name="adj2" fmla="val 6164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4123800" y="3241800"/>
            <a:ext cx="9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b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982040" y="3382920"/>
            <a:ext cx="31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627800" y="3382920"/>
            <a:ext cx="31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2"/>
          <p:cNvGrpSpPr/>
          <p:nvPr/>
        </p:nvGrpSpPr>
        <p:grpSpPr>
          <a:xfrm>
            <a:off x="5334120" y="2819520"/>
            <a:ext cx="3581280" cy="1258200"/>
            <a:chOff x="5334120" y="2819520"/>
            <a:chExt cx="3581280" cy="1258200"/>
          </a:xfrm>
        </p:grpSpPr>
        <p:sp>
          <p:nvSpPr>
            <p:cNvPr id="200" name="Freeform 13"/>
            <p:cNvSpPr/>
            <p:nvPr/>
          </p:nvSpPr>
          <p:spPr>
            <a:xfrm>
              <a:off x="5334120" y="2819520"/>
              <a:ext cx="1066680" cy="699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1536" h="1008">
                  <a:moveTo>
                    <a:pt x="0" y="624"/>
                  </a:moveTo>
                  <a:lnTo>
                    <a:pt x="192" y="1008"/>
                  </a:lnTo>
                  <a:lnTo>
                    <a:pt x="1536" y="0"/>
                  </a:lnTo>
                  <a:lnTo>
                    <a:pt x="336" y="624"/>
                  </a:lnTo>
                  <a:lnTo>
                    <a:pt x="192" y="432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5927760" y="3160800"/>
              <a:ext cx="29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 charge on non-metal ion to see if you need to “un-simplify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5"/>
          <p:cNvSpPr/>
          <p:nvPr/>
        </p:nvSpPr>
        <p:spPr>
          <a:xfrm>
            <a:off x="3809880" y="4952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1600200" y="6095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= lead (IV) iod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Verdana"/>
              </a:rPr>
              <a:t>IONIC COMPOUNDS WITH MULTIVALENT ME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388800" y="99072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1) Na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6647E-006 L 0.01841 -0.06774 E">
                                      <p:cBhvr>
                                        <p:cTn id="410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46821E-006 L -0.075 -0.06659 E">
                                      <p:cBhvr>
                                        <p:cTn id="414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6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2362320" y="2254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pper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 flipH="1">
            <a:off x="3657240" y="289548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5715000" y="289548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209680" y="45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4572000" y="45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376080" y="4200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5731920" y="4214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57240" y="4200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023520" y="420048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3276720" y="5911920"/>
            <a:ext cx="274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= CuCl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544680" y="99072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362320" y="2254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pper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(II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Verdana"/>
              </a:rPr>
              <a:t>IONIC COMPOUNDS WITH MULTIVALENT ME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2948E-006 L 0.30313 0.0874 E">
                                      <p:cBhvr>
                                        <p:cTn id="46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36994E-006 L -0.20451 0.08532 E">
                                      <p:cBhvr>
                                        <p:cTn id="470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853440" y="1870200"/>
            <a:ext cx="1573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"/>
          <p:cNvSpPr/>
          <p:nvPr/>
        </p:nvSpPr>
        <p:spPr>
          <a:xfrm flipH="1">
            <a:off x="3429000" y="25909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4876920" y="25146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76520" y="3809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48320" y="3809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752480" y="59119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= sodium sulf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88800" y="99072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1) Na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Verdana"/>
              </a:rPr>
              <a:t>IONIC COMPOUNDS WITH </a:t>
            </a:r>
            <a:r>
              <a:rPr b="1" lang="en-CA" sz="2500" spc="-1" strike="noStrike">
                <a:solidFill>
                  <a:srgbClr val="ffff00"/>
                </a:solidFill>
                <a:latin typeface="Verdana"/>
              </a:rPr>
              <a:t>POLYATOMIC</a:t>
            </a:r>
            <a:r>
              <a:rPr b="1" lang="en-CA" sz="2500" spc="-1" strike="noStrike">
                <a:solidFill>
                  <a:srgbClr val="ffffff"/>
                </a:solidFill>
                <a:latin typeface="Verdana"/>
              </a:rPr>
              <a:t> 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2666880" y="20574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lc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 flipH="1">
            <a:off x="3733920" y="283356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5181480" y="2819520"/>
            <a:ext cx="685800" cy="12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286000" y="42814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648320" y="42814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430800" y="3979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786640" y="399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3601800" y="3979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964120" y="3979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2209680" y="5805360"/>
            <a:ext cx="5105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Ca(Cl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544680" y="99072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Verdana"/>
              </a:rPr>
              <a:t>IONIC COMPOUNDS WITH </a:t>
            </a:r>
            <a:r>
              <a:rPr b="1" lang="en-CA" sz="2500" spc="-1" strike="noStrike">
                <a:solidFill>
                  <a:srgbClr val="ffff00"/>
                </a:solidFill>
                <a:latin typeface="Verdana"/>
              </a:rPr>
              <a:t>POLYATOMIC</a:t>
            </a:r>
            <a:r>
              <a:rPr b="1" lang="en-CA" sz="2500" spc="-1" strike="noStrike">
                <a:solidFill>
                  <a:srgbClr val="ffffff"/>
                </a:solidFill>
                <a:latin typeface="Verdana"/>
              </a:rPr>
              <a:t> 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4648320" y="42670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Verdana"/>
              </a:rPr>
              <a:t>(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2312E-006 L 0.3724 0.10844 E">
                                      <p:cBhvr>
                                        <p:cTn id="52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19132 0.10243 E">
                                      <p:cBhvr>
                                        <p:cTn id="53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18273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atomic ions have modified names in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atomic i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 ani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u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u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hl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rbon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hosph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247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1"/>
          <p:cNvSpPr/>
          <p:nvPr/>
        </p:nvSpPr>
        <p:spPr>
          <a:xfrm>
            <a:off x="563868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2"/>
          <p:cNvSpPr/>
          <p:nvPr/>
        </p:nvSpPr>
        <p:spPr>
          <a:xfrm>
            <a:off x="297180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827720" y="2362320"/>
            <a:ext cx="1959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4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27590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0666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XY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457200" y="6858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st acids have 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6138000" y="2286000"/>
            <a:ext cx="147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68738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5029200" y="5943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51814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NARY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122400" y="167652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1) Na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rom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Br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3598560" y="426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5954400" y="42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3769200" y="4276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6115680" y="42768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Br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3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544680" y="99072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603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607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6324480" y="685800"/>
            <a:ext cx="2819520" cy="617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ebe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3915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7391520" y="2209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7391520" y="2697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7391520" y="3154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t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391520" y="3565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p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7391520" y="402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e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391520" y="4556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7391520" y="5013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o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7391520" y="5440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n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739152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304920" y="919080"/>
            <a:ext cx="563868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ING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me both elements (change the ending of the element on the right to “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ut prefixes in front of th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iminate the prefix “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mon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if it is attached to the first element (the element on the l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RITING THE FORMUL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the symbols of th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vert the prefixes to subscri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-3812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OLECULA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1981080" y="6094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NON-METAL + NON-ME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7086600" y="1066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6781680" y="1752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67816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6781680" y="2697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6781680" y="3154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6781680" y="3565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6781680" y="4022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6781680" y="45561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6781680" y="50133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6781680" y="5440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67816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7632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7632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76320" y="27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76320" y="3230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t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76320" y="3641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p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76320" y="4098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e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76320" y="463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76320" y="5089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o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7632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n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76320" y="6019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0" y="852480"/>
            <a:ext cx="6705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he nam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PCl</a:t>
            </a:r>
            <a:r>
              <a:rPr b="1" lang="en-US" sz="48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-3812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OLECULA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981080" y="6094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NON-METAL + NON-ME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6"/>
          <p:cNvSpPr/>
          <p:nvPr/>
        </p:nvSpPr>
        <p:spPr>
          <a:xfrm flipH="1">
            <a:off x="3962520" y="1600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7"/>
          <p:cNvSpPr/>
          <p:nvPr/>
        </p:nvSpPr>
        <p:spPr>
          <a:xfrm>
            <a:off x="5334120" y="1600200"/>
            <a:ext cx="17524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274320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586728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0"/>
          <p:cNvSpPr/>
          <p:nvPr/>
        </p:nvSpPr>
        <p:spPr>
          <a:xfrm>
            <a:off x="7391520" y="3581280"/>
            <a:ext cx="533160" cy="304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723888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586728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3886200" y="1066680"/>
            <a:ext cx="2590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8ad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a8ad8"/>
                </a:solidFill>
                <a:latin typeface="Arial"/>
              </a:rPr>
              <a:t>	</a:t>
            </a:r>
            <a:r>
              <a:rPr b="1" lang="en-US" sz="4800" spc="-1" strike="noStrike" baseline="-25000">
                <a:solidFill>
                  <a:srgbClr val="8a8ad8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4"/>
          <p:cNvSpPr/>
          <p:nvPr/>
        </p:nvSpPr>
        <p:spPr>
          <a:xfrm flipH="1">
            <a:off x="2590560" y="1600200"/>
            <a:ext cx="236196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5"/>
          <p:cNvSpPr/>
          <p:nvPr/>
        </p:nvSpPr>
        <p:spPr>
          <a:xfrm>
            <a:off x="5791320" y="1676520"/>
            <a:ext cx="3808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6"/>
          <p:cNvSpPr/>
          <p:nvPr/>
        </p:nvSpPr>
        <p:spPr>
          <a:xfrm>
            <a:off x="1752480" y="419112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RULE #3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liminate the prefix “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mo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 if it is attached to the first element (the element on the le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7"/>
          <p:cNvSpPr/>
          <p:nvPr/>
        </p:nvSpPr>
        <p:spPr>
          <a:xfrm>
            <a:off x="2286000" y="3581280"/>
            <a:ext cx="838080" cy="304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1981080" y="55627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= phosphorus penta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17919E-006 L 0.22084 0.24417 E">
                                      <p:cBhvr>
                                        <p:cTn id="734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78035E-007 L 0.5875 -0.01988 E">
                                      <p:cBhvr>
                                        <p:cTn id="746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0" y="8524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he formula: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ulfur tetrox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560" y="-3812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OLECULA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981080" y="6094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NON-METAL + NON-ME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4191120" y="1600200"/>
            <a:ext cx="5331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3352680" y="31240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"/>
          <p:cNvSpPr/>
          <p:nvPr/>
        </p:nvSpPr>
        <p:spPr>
          <a:xfrm flipH="1">
            <a:off x="5638680" y="1676520"/>
            <a:ext cx="9907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4724280" y="3138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>
            <a:off x="3352680" y="1447920"/>
            <a:ext cx="167652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3733920" y="3581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8ad8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5562720" y="1600200"/>
            <a:ext cx="380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4572000" y="3581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2133720" y="4327560"/>
            <a:ext cx="61722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= </a:t>
            </a:r>
            <a:r>
              <a:rPr b="1" lang="en-US" sz="6000" spc="-1" strike="noStrike">
                <a:solidFill>
                  <a:srgbClr val="333399"/>
                </a:solidFill>
                <a:latin typeface="Verdana"/>
              </a:rPr>
              <a:t>SO</a:t>
            </a:r>
            <a:r>
              <a:rPr b="1" lang="en-US" sz="6000" spc="-1" strike="noStrike" baseline="-25000">
                <a:solidFill>
                  <a:srgbClr val="333399"/>
                </a:solidFill>
                <a:latin typeface="Verdan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0" y="5881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how “tetroxide” is NOT spelt as tetr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xide. The “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 in the prefix is eliminated when its followed by an “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4" descr="http://kgortney.pbworks.com/f/1288021764/lewis_elements.gif"/>
          <p:cNvPicPr/>
          <p:nvPr/>
        </p:nvPicPr>
        <p:blipFill>
          <a:blip r:embed="rId1">
            <a:lum contrast="6000"/>
          </a:blip>
          <a:srcRect l="2497" t="4192" r="3332" b="3491"/>
          <a:stretch/>
        </p:blipFill>
        <p:spPr>
          <a:xfrm>
            <a:off x="228600" y="129528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57200" y="8222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amine the number of valence electrons for each at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57200" y="63086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What do you not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IONS AND THEIR CHAR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http://www.middleschoolchemistry.com/img/content/multimedia/chapter_4/lesson_6/lewis_dot_table_big.jpg"/>
          <p:cNvPicPr/>
          <p:nvPr/>
        </p:nvPicPr>
        <p:blipFill>
          <a:blip r:embed="rId1"/>
          <a:stretch/>
        </p:blipFill>
        <p:spPr>
          <a:xfrm>
            <a:off x="1228680" y="533520"/>
            <a:ext cx="7086600" cy="5398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228600" y="5865840"/>
            <a:ext cx="95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RE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ments in the same group have the same number of 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us elements in the same group have similar re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286000" y="533520"/>
            <a:ext cx="4952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438280" y="990720"/>
            <a:ext cx="488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amine the number of valence electrons for each at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305000" y="1981080"/>
            <a:ext cx="828720" cy="3875040"/>
          </a:xfrm>
          <a:prstGeom prst="rect">
            <a:avLst/>
          </a:prstGeom>
          <a:solidFill>
            <a:srgbClr val="ff0000">
              <a:alpha val="19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0" y="220968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Example: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ll alkali metals have one valence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IONS AND THEIR CHAR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5"/>
          <p:cNvSpPr/>
          <p:nvPr/>
        </p:nvSpPr>
        <p:spPr>
          <a:xfrm>
            <a:off x="271440" y="5486400"/>
            <a:ext cx="872028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ments become stable by achieving 8 valence electrons (except for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hydroge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helium, which achieve 2 electr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ble gases are non-reactive because they have 8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s called th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Octet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1646280" y="933480"/>
            <a:ext cx="5851440" cy="4459320"/>
            <a:chOff x="1646280" y="933480"/>
            <a:chExt cx="5851440" cy="4459320"/>
          </a:xfrm>
        </p:grpSpPr>
        <p:pic>
          <p:nvPicPr>
            <p:cNvPr id="62" name="Picture 12" descr="http://www.middleschoolchemistry.com/img/content/multimedia/chapter_4/lesson_6/lewis_dot_table_big.jpg"/>
            <p:cNvPicPr/>
            <p:nvPr/>
          </p:nvPicPr>
          <p:blipFill>
            <a:blip r:embed="rId1"/>
            <a:stretch/>
          </p:blipFill>
          <p:spPr>
            <a:xfrm>
              <a:off x="1646280" y="933480"/>
              <a:ext cx="5851440" cy="44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11"/>
            <p:cNvSpPr/>
            <p:nvPr/>
          </p:nvSpPr>
          <p:spPr>
            <a:xfrm>
              <a:off x="2519280" y="933480"/>
              <a:ext cx="4089240" cy="9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"/>
          <p:cNvSpPr/>
          <p:nvPr/>
        </p:nvSpPr>
        <p:spPr>
          <a:xfrm>
            <a:off x="2209680" y="898560"/>
            <a:ext cx="47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number of valence electrons can determine re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IONS AND THEIR CHAR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"/>
          <p:cNvGrpSpPr/>
          <p:nvPr/>
        </p:nvGrpSpPr>
        <p:grpSpPr>
          <a:xfrm>
            <a:off x="1066680" y="488880"/>
            <a:ext cx="6858000" cy="5226120"/>
            <a:chOff x="1066680" y="488880"/>
            <a:chExt cx="6858000" cy="5226120"/>
          </a:xfrm>
        </p:grpSpPr>
        <p:pic>
          <p:nvPicPr>
            <p:cNvPr id="67" name="Picture 12" descr="http://www.middleschoolchemistry.com/img/content/multimedia/chapter_4/lesson_6/lewis_dot_table_big.jpg"/>
            <p:cNvPicPr/>
            <p:nvPr/>
          </p:nvPicPr>
          <p:blipFill>
            <a:blip r:embed="rId1"/>
            <a:stretch/>
          </p:blipFill>
          <p:spPr>
            <a:xfrm>
              <a:off x="1066680" y="488880"/>
              <a:ext cx="6858000" cy="52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11"/>
            <p:cNvSpPr/>
            <p:nvPr/>
          </p:nvSpPr>
          <p:spPr>
            <a:xfrm>
              <a:off x="2090520" y="488880"/>
              <a:ext cx="47926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"/>
          <p:cNvSpPr/>
          <p:nvPr/>
        </p:nvSpPr>
        <p:spPr>
          <a:xfrm>
            <a:off x="1981080" y="898560"/>
            <a:ext cx="495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w many valence electrons does each atom need to gain or lose to achieve a full oct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1600200" y="1219320"/>
            <a:ext cx="2286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600200" y="2546280"/>
            <a:ext cx="2286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1676520" y="3841920"/>
            <a:ext cx="22860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1600200" y="5060880"/>
            <a:ext cx="2286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152280" y="5703840"/>
            <a:ext cx="182880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kali metals lose 1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 flipV="1">
            <a:off x="990720" y="54860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2362320" y="23623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590920" y="251460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2286000" y="358128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2590920" y="38419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2286000" y="49849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2514600" y="513720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2209680" y="5715000"/>
            <a:ext cx="175284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kali earth metals lose 2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 flipH="1" flipV="1">
            <a:off x="2514240" y="54860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3124080" y="23176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3352680" y="251460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2971800" y="251460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3124080" y="35812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6"/>
          <p:cNvSpPr/>
          <p:nvPr/>
        </p:nvSpPr>
        <p:spPr>
          <a:xfrm>
            <a:off x="3352680" y="385452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95480" y="38098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4191120" y="5715000"/>
            <a:ext cx="220968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13 elements lose 3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9"/>
          <p:cNvSpPr/>
          <p:nvPr/>
        </p:nvSpPr>
        <p:spPr>
          <a:xfrm flipH="1" flipV="1">
            <a:off x="3200040" y="419076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0"/>
          <p:cNvSpPr/>
          <p:nvPr/>
        </p:nvSpPr>
        <p:spPr>
          <a:xfrm>
            <a:off x="4038480" y="23176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1"/>
          <p:cNvSpPr/>
          <p:nvPr/>
        </p:nvSpPr>
        <p:spPr>
          <a:xfrm>
            <a:off x="4191120" y="254628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4038480" y="285120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3809880" y="25462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3962520" y="36133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5"/>
          <p:cNvSpPr/>
          <p:nvPr/>
        </p:nvSpPr>
        <p:spPr>
          <a:xfrm>
            <a:off x="4191120" y="391788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6"/>
          <p:cNvSpPr/>
          <p:nvPr/>
        </p:nvSpPr>
        <p:spPr>
          <a:xfrm>
            <a:off x="3962520" y="414648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3733920" y="38419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6629400" y="5715000"/>
            <a:ext cx="243828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14 elements lose or gain 4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9"/>
          <p:cNvSpPr/>
          <p:nvPr/>
        </p:nvSpPr>
        <p:spPr>
          <a:xfrm flipH="1" flipV="1">
            <a:off x="4114440" y="4267080"/>
            <a:ext cx="34290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IONS AND THEIR CHAR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3"/>
          <p:cNvGrpSpPr/>
          <p:nvPr/>
        </p:nvGrpSpPr>
        <p:grpSpPr>
          <a:xfrm>
            <a:off x="1066680" y="488880"/>
            <a:ext cx="6858000" cy="5226120"/>
            <a:chOff x="1066680" y="488880"/>
            <a:chExt cx="6858000" cy="5226120"/>
          </a:xfrm>
        </p:grpSpPr>
        <p:pic>
          <p:nvPicPr>
            <p:cNvPr id="104" name="Picture 12" descr="http://www.middleschoolchemistry.com/img/content/multimedia/chapter_4/lesson_6/lewis_dot_table_big.jpg"/>
            <p:cNvPicPr/>
            <p:nvPr/>
          </p:nvPicPr>
          <p:blipFill>
            <a:blip r:embed="rId1"/>
            <a:stretch/>
          </p:blipFill>
          <p:spPr>
            <a:xfrm>
              <a:off x="1066680" y="488880"/>
              <a:ext cx="6858000" cy="52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1"/>
            <p:cNvSpPr/>
            <p:nvPr/>
          </p:nvSpPr>
          <p:spPr>
            <a:xfrm>
              <a:off x="2090520" y="488880"/>
              <a:ext cx="47926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"/>
          <p:cNvSpPr/>
          <p:nvPr/>
        </p:nvSpPr>
        <p:spPr>
          <a:xfrm>
            <a:off x="1981080" y="898560"/>
            <a:ext cx="495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w many valence electrons does each atom need to gain or lose to achieve a full oct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39625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600200" y="1219320"/>
            <a:ext cx="2286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600200" y="2546280"/>
            <a:ext cx="2286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676520" y="3841920"/>
            <a:ext cx="22860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600200" y="5060880"/>
            <a:ext cx="2286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2362320" y="23623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2590920" y="251460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2286000" y="358128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2590920" y="38419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2286000" y="49849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2514600" y="513720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3124080" y="23176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3352680" y="251460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2971800" y="251460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3124080" y="35812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352680" y="385452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2895480" y="38098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228600" y="5780160"/>
            <a:ext cx="198108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oup 14 elements lose or gain 4 electr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5"/>
          <p:cNvSpPr/>
          <p:nvPr/>
        </p:nvSpPr>
        <p:spPr>
          <a:xfrm flipV="1">
            <a:off x="1371600" y="4267080"/>
            <a:ext cx="27432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6"/>
          <p:cNvSpPr/>
          <p:nvPr/>
        </p:nvSpPr>
        <p:spPr>
          <a:xfrm>
            <a:off x="41911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7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8"/>
          <p:cNvSpPr/>
          <p:nvPr/>
        </p:nvSpPr>
        <p:spPr>
          <a:xfrm>
            <a:off x="3886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9"/>
          <p:cNvSpPr/>
          <p:nvPr/>
        </p:nvSpPr>
        <p:spPr>
          <a:xfrm>
            <a:off x="3886200" y="3657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0"/>
          <p:cNvSpPr/>
          <p:nvPr/>
        </p:nvSpPr>
        <p:spPr>
          <a:xfrm>
            <a:off x="4267080" y="4038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3886200" y="4191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2"/>
          <p:cNvSpPr/>
          <p:nvPr/>
        </p:nvSpPr>
        <p:spPr>
          <a:xfrm>
            <a:off x="3809880" y="4038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3"/>
          <p:cNvSpPr/>
          <p:nvPr/>
        </p:nvSpPr>
        <p:spPr>
          <a:xfrm>
            <a:off x="480060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4"/>
          <p:cNvSpPr/>
          <p:nvPr/>
        </p:nvSpPr>
        <p:spPr>
          <a:xfrm>
            <a:off x="46483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5"/>
          <p:cNvSpPr/>
          <p:nvPr/>
        </p:nvSpPr>
        <p:spPr>
          <a:xfrm>
            <a:off x="480060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6"/>
          <p:cNvSpPr/>
          <p:nvPr/>
        </p:nvSpPr>
        <p:spPr>
          <a:xfrm>
            <a:off x="4800600" y="4191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7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8"/>
          <p:cNvSpPr/>
          <p:nvPr/>
        </p:nvSpPr>
        <p:spPr>
          <a:xfrm>
            <a:off x="48006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2286000" y="5780160"/>
            <a:ext cx="167652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oup 15 elements gain 3 electr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0"/>
          <p:cNvSpPr/>
          <p:nvPr/>
        </p:nvSpPr>
        <p:spPr>
          <a:xfrm flipV="1">
            <a:off x="3124080" y="4343400"/>
            <a:ext cx="1600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1"/>
          <p:cNvSpPr/>
          <p:nvPr/>
        </p:nvSpPr>
        <p:spPr>
          <a:xfrm>
            <a:off x="56386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2"/>
          <p:cNvSpPr/>
          <p:nvPr/>
        </p:nvSpPr>
        <p:spPr>
          <a:xfrm>
            <a:off x="55627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5638680" y="41148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4"/>
          <p:cNvSpPr/>
          <p:nvPr/>
        </p:nvSpPr>
        <p:spPr>
          <a:xfrm>
            <a:off x="5562720" y="3962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4038480" y="5780160"/>
            <a:ext cx="167652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oup 16 elements gain 2 electr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6"/>
          <p:cNvSpPr/>
          <p:nvPr/>
        </p:nvSpPr>
        <p:spPr>
          <a:xfrm flipV="1">
            <a:off x="5334120" y="4343400"/>
            <a:ext cx="380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7"/>
          <p:cNvSpPr/>
          <p:nvPr/>
        </p:nvSpPr>
        <p:spPr>
          <a:xfrm>
            <a:off x="65530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48"/>
          <p:cNvSpPr/>
          <p:nvPr/>
        </p:nvSpPr>
        <p:spPr>
          <a:xfrm>
            <a:off x="6553080" y="4191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5791320" y="578016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logens gain 1 elec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0"/>
          <p:cNvSpPr/>
          <p:nvPr/>
        </p:nvSpPr>
        <p:spPr>
          <a:xfrm flipH="1" flipV="1">
            <a:off x="6705360" y="4277880"/>
            <a:ext cx="2286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7162920" y="5780160"/>
            <a:ext cx="167616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ble gases already have a full oc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2"/>
          <p:cNvSpPr/>
          <p:nvPr/>
        </p:nvSpPr>
        <p:spPr>
          <a:xfrm flipH="1" flipV="1">
            <a:off x="7848720" y="4343400"/>
            <a:ext cx="380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IONS AND THEIR CHAR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1"/>
          <p:cNvSpPr/>
          <p:nvPr/>
        </p:nvSpPr>
        <p:spPr>
          <a:xfrm>
            <a:off x="1216080" y="86364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Ion charges based on family/gro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http://kgortney.pbworks.com/f/1288021764/lewis_elements.gif"/>
          <p:cNvPicPr/>
          <p:nvPr/>
        </p:nvPicPr>
        <p:blipFill>
          <a:blip r:embed="rId1">
            <a:lum contrast="6000"/>
          </a:blip>
          <a:srcRect l="2497" t="4192" r="3332" b="3491"/>
          <a:stretch/>
        </p:blipFill>
        <p:spPr>
          <a:xfrm>
            <a:off x="762120" y="1371600"/>
            <a:ext cx="7696080" cy="44956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3"/>
          <p:cNvSpPr/>
          <p:nvPr/>
        </p:nvSpPr>
        <p:spPr>
          <a:xfrm>
            <a:off x="83988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>
            <a:off x="175428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267012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737880" y="593892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+/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4727520" y="5948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5641920" y="5948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6558120" y="5948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7626960" y="59436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IONS AND THEIR CHAR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BINARY IONIC COMPOUN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023000" y="1695600"/>
            <a:ext cx="1339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g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"/>
          <p:cNvSpPr/>
          <p:nvPr/>
        </p:nvSpPr>
        <p:spPr>
          <a:xfrm flipH="1">
            <a:off x="3505320" y="23623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4952880" y="22860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66680" y="35812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724280" y="3581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6324120" y="3809880"/>
            <a:ext cx="76212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334120" y="3200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99072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= magnesium chlo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88800" y="99072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1) Na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1981080" y="1873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gnesium 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 flipH="1">
            <a:off x="3657600" y="260496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5410080" y="2514600"/>
            <a:ext cx="381240" cy="13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209680" y="40528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M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572000" y="40528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369960" y="3819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725800" y="3833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540600" y="3819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5887080" y="38196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6815160" y="44956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Verdana"/>
              </a:rPr>
              <a:t>SIMPLIF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276720" y="58672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M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544680" y="99072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BINARY IONIC COMPOUN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31214E-007 L 0.29774 0.1163 E">
                                      <p:cBhvr>
                                        <p:cTn id="35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93642E-007 L -0.19323 0.11422 E">
                                      <p:cBhvr>
                                        <p:cTn id="36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8:51:37Z</dcterms:created>
  <dc:creator>User</dc:creator>
  <dc:description/>
  <dc:language>en-US</dc:language>
  <cp:lastModifiedBy>Alan</cp:lastModifiedBy>
  <dcterms:modified xsi:type="dcterms:W3CDTF">2013-09-11T18:33:10Z</dcterms:modified>
  <cp:revision>35</cp:revision>
  <dc:subject/>
  <dc:title>Naming and Formula Writing</dc:title>
</cp:coreProperties>
</file>